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BDB-BF9E-4E0A-AD12-4A83D139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58BE-7EA2-45FA-8809-54234E3C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47D-36DB-4888-B960-0EDD3D77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B057-12B0-44C6-91BB-DCBDE7B5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CC63-16FD-400B-BA16-A5D8F3C1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E4A-A9FE-4416-803D-44563058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BC6-F51A-4AC3-B41C-A656762A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A3E-71D4-44FB-BFB7-187CD911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3EA4-68AC-482F-8D93-7E511CEE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C4BE-F8B6-42AA-9753-EEF3171F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F88D-2442-4CE1-89C8-A0E4C304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589D-2855-417E-9515-A0AAC405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ir@mrreddy.co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53E3-04A2-433C-9EBA-AC932ADD3E6C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rm Te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62280" y="1412640"/>
            <a:ext cx="92422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This test contains </a:t>
            </a: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10 questions</a:t>
            </a: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 covering this term’s topics. 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Each question will appear for </a:t>
            </a: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8secs</a:t>
            </a: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The questions will be looped 3 times so if you miss a question the 1st time, you still have </a:t>
            </a: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2 more chances</a:t>
            </a: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140760"/>
            <a:ext cx="8785440" cy="544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9.)  Expand the brackets: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(y + 4)(y + 6)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10.)  Solve this equation: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8m – 16 = 40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9280" indent="-71928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½(a + b) × 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19280" indent="-719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19280" indent="-71928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+ b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= c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19280" indent="-71928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5y – 2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19280" indent="-71928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40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5040" indent="-89244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ase × Altitu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905040" indent="-89244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 or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905040" indent="-89244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(3y – 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905040" indent="-89244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+10y+2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905040" indent="-89244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 = 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699920"/>
            <a:ext cx="87854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1.)  Write down the formula for the area of a trapezium. You could explain it if you prefer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2.)  Write in words or algebraically, the formula for the area of a circle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63370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3.) Look at this triangle. What is Pythagoras’ Theorem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6443640" y="3500280"/>
            <a:ext cx="2089080" cy="2519640"/>
          </a:xfrm>
          <a:prstGeom prst="rtTriangl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2160" y="4365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94520" y="60958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81440" y="4076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52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4.)  Expand the brackets: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5(7y – 4)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5.)  Look at this triangle. What is the size of angle m?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4005360"/>
            <a:ext cx="4537080" cy="16570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5661000"/>
            <a:ext cx="237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57440" y="4869000"/>
            <a:ext cx="6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720" y="4149720"/>
            <a:ext cx="10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5440" y="5084640"/>
            <a:ext cx="7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6.)  Write down the formula for the area of a parallelogram.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4437000"/>
            <a:ext cx="5761080" cy="1152720"/>
          </a:xfrm>
          <a:prstGeom prst="parallelogram">
            <a:avLst>
              <a:gd name="adj" fmla="val 124945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39320"/>
            <a:ext cx="8642160" cy="57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7.)  Write in words or algebraically, the formula for the circumference of a circle. [Hint: there are 2 possible answers]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52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Tahoma"/>
              </a:rPr>
              <a:t>8.)  Factorise the expresison:</a:t>
            </a:r>
            <a:br>
              <a:rPr sz="8800"/>
            </a:br>
            <a:r>
              <a:rPr b="0" lang="en-GB" sz="8800" spc="-1" strike="noStrike">
                <a:solidFill>
                  <a:srgbClr val="ffffff"/>
                </a:solidFill>
                <a:latin typeface="Tahoma"/>
              </a:rPr>
              <a:t>12y – 8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1:46:17Z</dcterms:created>
  <dc:creator>Bruno Reddy</dc:creator>
  <dc:description/>
  <dc:language>en-US</dc:language>
  <cp:lastModifiedBy>A User</cp:lastModifiedBy>
  <dcterms:modified xsi:type="dcterms:W3CDTF">2005-12-14T12:20:54Z</dcterms:modified>
  <cp:revision>8</cp:revision>
  <dc:subject/>
  <dc:title>1.)  2 x n</dc:title>
</cp:coreProperties>
</file>